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1F76B-049E-4717-8DD2-E0254E37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F329A-A554-442F-B5E8-AF264521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8AF16-52CF-483B-8DD5-D095AD41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D2387-9CCD-45C6-AD9D-75414E4A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ED38-DACC-4442-8D95-6B06590E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E880-6F80-44C8-BAB8-4FE34373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46EC-66D6-47C0-B4FE-9BDC56A2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4E1F-F47E-4CBB-8CE0-6DB69D18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F6DF-2287-454E-BDF3-1BECBE14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72B8-1309-4EBF-82EF-624063EA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9739-D4E9-4F0E-A255-B1619C8C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0C58E-8002-41D7-84A5-0A6C8BDA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333A-FEEE-4EC9-BE38-A0DA0358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ABA2-5409-4DAF-BB72-2C744AB5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6AFB-2DD5-4DCE-983B-B5A4F891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EF91-BD40-4016-AC86-9C934215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6FD5-C5F4-47E2-9A99-D077BCF2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60371-F5D2-404A-ACDD-FB6688EE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41057-130E-4BD4-A68E-8B2974C2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E1060-D4BE-432F-B46F-D5AC72DE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FFCE2-772C-4639-A8F1-9EE04E3F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09AD-57AA-427A-8A92-668938FE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EBF0B-6128-4DD1-861E-7A1840B1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9689E-FF92-490F-A5EF-7F3D349B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3138-FD60-42AC-B7D5-FC6E2489E73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A372-BF49-4788-B543-368B3FBBC6F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53532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74 (690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 [: Ей, напред! :]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е напред към светлин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Сион, вдигни твой свещник, пръсни всяка тъмни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светли ти всеки грешник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ветлина да види целий свят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Ей, напред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837720"/>
            <a:ext cx="957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[: О, Сион! :]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Укрепи се в Бога Св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мето Му е блажено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илен е и мощен Т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т' дърво всегда зелен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сила ти расти пред Божи тро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О, Сион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837720"/>
            <a:ext cx="957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[: До конец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Сионе, верен ст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боя със греховно брем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сус е Помощник тв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й ще дойде, ще те взем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славний дом на нашия Отец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Със венец! :]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19:48Z</dcterms:modified>
  <cp:revision>106</cp:revision>
  <dc:subject/>
  <dc:title>Slide 1</dc:title>
</cp:coreProperties>
</file>